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rbrake.wav" ContentType="audio/x-wav"/>
  <Override PartName="/ppt/media/chimes.wav" ContentType="audio/x-wav"/>
  <Override PartName="/ppt/media/image9.jpeg" ContentType="image/jpeg"/>
  <Override PartName="/ppt/media/image11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applause.wav" ContentType="audio/x-wav"/>
  <Override PartName="/ppt/media/image7.jpeg" ContentType="image/jpeg"/>
  <Override PartName="/ppt/media/image12.jpeg" ContentType="image/jpe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0AA7-F2C0-4D39-80F8-E0C1B49C2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39C9-1B4D-447D-8211-370F0BD02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E30A-66A1-4A3E-9FC8-08FAF0E96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849C-8ACC-4BCA-87D7-FE6EDCC6A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EB1B-371D-42BC-86C2-3C479D687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01B4-2966-4072-A695-AC9F18EC4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FCF0-6047-4813-A852-0A43D4B7A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7564-C0CF-41F2-A843-33DB866CC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8AEA-4ABA-41E5-905D-A7631AD5C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82BD-A363-4E0B-ABCC-CF6273D55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79D0-C543-4D53-8D66-C41765657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9A19-9673-45AB-8D5F-24D1C068F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6B6C4-6F32-423F-A9F5-670E1BEA73D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800000"/>
                </a:solidFill>
                <a:latin typeface="Times New Roman"/>
              </a:rPr>
              <a:t>Welcome to my class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940480" y="4540320"/>
            <a:ext cx="485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----By Wang Y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Senior Class2, Grade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peaking:</a:t>
            </a:r>
            <a:br>
              <a:rPr sz="44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useful express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hank for one’s hel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anks for all your help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at’s very kind of you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ank you from the bottom of my hear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ny thank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anks a lo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peaking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useful expression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efuse hel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o,thank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can manage it myself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ank all the sam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ank you anywa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3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8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3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8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3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ct out the following situation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4200" y="838080"/>
            <a:ext cx="6557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tudents’ activities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029200" y="3389400"/>
            <a:ext cx="367344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Situation1:</a:t>
            </a:r>
            <a:br>
              <a:rPr sz="4800"/>
            </a:b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An old man is carrying a very heavy suitcase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048120" y="2743200"/>
            <a:ext cx="6095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62520" y="2514240"/>
            <a:ext cx="441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Situation2: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omebody is late for a flight and wants to go ahead of the queu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2286000"/>
            <a:ext cx="36576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Situation3: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 old and sick person is on a crowded bus and wants to sit dow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971800" y="3657600"/>
            <a:ext cx="46483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Key words to remember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unfair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(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un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fair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dj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公平的，不公正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unfair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ecision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个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不公正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决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fair and square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光明正大地， 公正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fair  play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公平竞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Eg: This is a good game and they beat us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fair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d squar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Key words to remember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manage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v.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管理，经营（尤指商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处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manag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a hotel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经营一家餐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he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manage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the money very well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她很善于理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manage to do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成功地应付（问题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he box is heavy, but I can 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manage to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carr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anage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过去时通常指尝试去做并且成功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She ________ to see him in prison and gave him the mess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She _________ to see him in prison, but fail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446840" y="4854600"/>
            <a:ext cx="165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manag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02360" y="5715000"/>
            <a:ext cx="111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ri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-685800" y="-1676520"/>
            <a:ext cx="10366200" cy="103665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49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ff66"/>
                </a:solidFill>
                <a:latin typeface="Lucida Console"/>
              </a:rPr>
              <a:t>Thank you!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1879560" cy="5378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962520" y="1219320"/>
            <a:ext cx="236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Unit 2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743200" y="2987640"/>
            <a:ext cx="5410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Impact"/>
              </a:rPr>
              <a:t>BODY LANGUAG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3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3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809880" y="2370240"/>
            <a:ext cx="5334120" cy="44877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Times New Roman"/>
              </a:rPr>
              <a:t>Warming up:</a:t>
            </a:r>
            <a:br>
              <a:rPr sz="4400"/>
            </a:br>
            <a:r>
              <a:rPr b="1" lang="en-US" sz="5400" spc="-1" strike="noStrike">
                <a:solidFill>
                  <a:srgbClr val="3333cc"/>
                </a:solidFill>
                <a:latin typeface="Times New Roman"/>
              </a:rPr>
              <a:t>What is body language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 way to communicate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without word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ut sometimes more than word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Can you understand the meaning of the following  gestur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5800" y="2362320"/>
            <a:ext cx="3429000" cy="25905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373400" y="5486400"/>
            <a:ext cx="289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Victory/W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954680" y="5486400"/>
            <a:ext cx="311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aise/Great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267080" y="2438280"/>
            <a:ext cx="363240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4647960" cy="3429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029200" y="1066680"/>
            <a:ext cx="3886200" cy="3429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600" y="4800600"/>
            <a:ext cx="489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handshak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friendshi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81480" y="4800600"/>
            <a:ext cx="373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make a prom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How do you use body language to express the following situation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When you are walking in a street alone,suddenly you find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something terribl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(maybe it’s a piece of human skin)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You’re watching a film in the cinema. You enjoy the film very much, but the man sitting in front of you is talking all the ti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How do you use body language to express the following situation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You want to hear somebody more clearly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In the English class, you want to sleep very much, but you don’t want your teacher to know that you are sleep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9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4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Speaking:</a:t>
            </a:r>
            <a:br>
              <a:rPr sz="48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useful expression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offer help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y I help you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can I do for you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ould you like some help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s there anything I can do for you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uld you let me give you a han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ould you like me to help you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hall I help you with that?  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peaking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useful expression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sk for hel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xcuse me, could you help me with thi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s there anyone who can help m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n you give me a hand, pleas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uld you help me pleas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8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8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3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8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4T14:12:47Z</dcterms:created>
  <dc:creator>myth</dc:creator>
  <dc:description/>
  <dc:language>en-US</dc:language>
  <cp:lastModifiedBy>zeng</cp:lastModifiedBy>
  <dcterms:modified xsi:type="dcterms:W3CDTF">2004-06-13T11:24:36Z</dcterms:modified>
  <cp:revision>15</cp:revision>
  <dc:subject/>
  <dc:title>Welcome to my class!</dc:title>
</cp:coreProperties>
</file>